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CB82-AC40-457F-8976-B5886E7A922E}" type="slidenum">
              <a:rPr b="0" lang="sl-SI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grada številke diapozitiva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0F08-08DE-48F8-8AD3-F96C144B1708}" type="slidenum">
              <a:rPr b="0" lang="sl-SI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633-DF74-435A-8E21-268D2E13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1D60-780E-468A-906E-0E155AD8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A7A-4616-4FA8-8B28-E3AF3D5D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7BC-7730-4B82-87F5-477B0A44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DDE8-A442-48B6-8364-1BE84DE6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C8C9-7EF4-47C7-AE04-D5975C16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C440-17C2-4657-8D4F-F03E6133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E054-89E8-480C-8473-5E981ED5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7922-D9D2-44A3-8CF7-A3149317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3613-DAB4-4B3C-A8DB-1430C57A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C429-0F1E-44EB-81A1-555AD763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CBA-EC08-483C-AA2A-738D56A9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D6D4-0942-474B-BC40-8B3376A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AE81-4154-4A74-9199-C56C037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FC8F-8528-4DB4-9D54-0CE8D8D1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EB4C-DE83-4DC7-8B75-4351DD26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E262-8103-41D2-BB2C-81A8EC37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D1F3-8662-41CC-ABD8-FEAEC48B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3CF9-A549-40E2-B527-752C1522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4D0D-1F70-40C4-9C77-5A6743C5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FD43-DA4B-4167-8A69-09D399FE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A864-3A20-46CF-8023-8F08EFD0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5D1-7E32-4C98-A1D5-2ED4F491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106C-4071-45C8-90EB-B187CA9B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356D-F400-4000-B891-676C0CB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EA91D-A31C-4AAC-A385-BD06FC0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12E2-30E9-4492-8A50-BFCB5ECC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61965-B232-46E3-8AEA-207CE25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3A5C-5B62-4CF0-9E2B-C39FD8CE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60FE-4AAF-47C0-A129-E2092594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3593-29B1-4120-B6BD-369D3E53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7FCAC-58B8-486B-A644-58FBD7C6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D97C-44EF-4325-B3DC-AABB117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E9A-8F48-42B2-A4EE-FA0F4F83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9A5C-62F0-4986-9819-4E66862F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33AA1-A9C3-4629-A781-795D7B0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E6C1D-2489-4563-AEEC-FCBB53EF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D9F2-B47E-4B7D-AE93-A5E2C39B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E1987-77D2-45B1-92F0-8DEC539D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BA0BD-89CC-40E6-8913-96C4D9B3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FC105-14FC-4506-A43F-9DCB3F33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705E-CF06-462E-A426-B56E63EE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4994A-FDBB-4589-9088-5F4C1268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403BB-20CF-48DC-B479-03947DFD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D95-625B-41FA-9A78-03D51DCE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2EF2E-37AF-4344-9DA8-B3747962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F4E41-B2AA-452C-8E38-158956B0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50EF1-3EF1-49EA-A453-694ACC84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7C6E-CADD-45A2-BA15-0E5C87BF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5A752-4E16-431F-8167-926AB135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E0D98-2586-4994-B737-73418984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0AA5E-B996-4EBD-A076-53A8B7A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01CF-33A3-455A-B12A-F2E82219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5E7F-6955-4F67-BE20-85690174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B47F-930C-4B0D-8998-68D3DD60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3D3-CE69-4308-BAB7-D243864D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46F5B-5604-4E07-B1E3-27AB6FBF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AF8-C22C-49C0-9B49-49027F72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B70-E5E8-4441-BA77-EAE8EFEE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306-4872-4A70-A446-86EED84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06AD-13F5-4134-A5E2-D183A491BA31}" type="slidenum">
              <a:rPr b="0" lang="sl-S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E6C6-E8A4-42E8-8439-FC81E06ED1B6}" type="slidenum">
              <a:rPr b="0" lang="sl-SI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9a9a9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7c7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01EB-FE48-44FE-B0E8-EB1D5C0D34FD}" type="slidenum">
              <a:rPr b="0" lang="sl-SI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6A94-349E-4BD0-999C-24BFE48555FB}" type="slidenum">
              <a:rPr b="0" lang="sl-SI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4D2A-244B-437B-8720-7AD71425B970}" type="slidenum"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56760" y="3143160"/>
            <a:ext cx="8358120" cy="3376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VIDIKI ZDRAVE PREHRANE</a:t>
            </a: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S POUDARKOM NA ZAJTRK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ag. Matej Gregorič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ojca Gabrijelčič Blenkuš, Vida Fajdiga Tu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štitut za varovanje zdravja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glava_z_logotipi (2)"/>
          <p:cNvPicPr/>
          <p:nvPr/>
        </p:nvPicPr>
        <p:blipFill>
          <a:blip r:embed="rId1"/>
          <a:stretch/>
        </p:blipFill>
        <p:spPr>
          <a:xfrm>
            <a:off x="1440" y="11592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49636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ako dobri smo v zajtrkovan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3429000"/>
            <a:ext cx="82105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Mladostniki med vsemi obroki najpogosteje opuščajo zajtrk, med tednom še vedno nikoli ne zajtrkuje tretjina mladostnikov. Vzorec zajtrkovanja se ob koncu tedna znatno izboljša. Opuščanje zajtrka narašča s starostjo in je pogostejše med dekleti </a:t>
            </a:r>
            <a:r>
              <a:rPr b="0" lang="sl-SI" sz="1500" spc="-1" strike="noStrike">
                <a:solidFill>
                  <a:srgbClr val="000000"/>
                </a:solidFill>
                <a:latin typeface="Calibri"/>
              </a:rPr>
              <a:t>(HBSC, 2011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ravokotnik 1"/>
          <p:cNvSpPr/>
          <p:nvPr/>
        </p:nvSpPr>
        <p:spPr>
          <a:xfrm>
            <a:off x="611280" y="1690560"/>
            <a:ext cx="7705800" cy="1769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Ena od profesoric iz celjske regije je zapisala: </a:t>
            </a:r>
            <a:r>
              <a:rPr b="1" i="1" lang="sl-SI" sz="2200" spc="-1" strike="noStrike">
                <a:solidFill>
                  <a:srgbClr val="000000"/>
                </a:solidFill>
                <a:latin typeface="Calibri"/>
              </a:rPr>
              <a:t>»Pripravila in izpeljala sem kratko anketo v razredu o zajtrku. Tisti dan jih je zajtrkovalo le 15%. Pošastno! Nisem se niti zavedala, da je tako slabo…Saj ni čudno, da me prvo uro sploh ne morejo slediti…«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Zakaj je pomembno zajtrkova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95320"/>
            <a:ext cx="5543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Po jutru se dan pozna…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Prazna vreča ne stoji pokonci…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Zajtrkuj kot kralj, kosi kot princ 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večerjaj kot berač…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Zajtrk pojej sam, kosilo deli s prijatelji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večerjo pa daj sovražnikom…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808440" cy="2519640"/>
          </a:xfrm>
          <a:prstGeom prst="rect">
            <a:avLst/>
          </a:prstGeom>
          <a:ln w="0">
            <a:noFill/>
          </a:ln>
        </p:spPr>
      </p:pic>
      <p:sp>
        <p:nvSpPr>
          <p:cNvPr id="264" name="Pravokotnik 4"/>
          <p:cNvSpPr/>
          <p:nvPr/>
        </p:nvSpPr>
        <p:spPr>
          <a:xfrm>
            <a:off x="755640" y="5634000"/>
            <a:ext cx="7705800" cy="109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Energijo telo potrebuje takrat, ko bo delovalo. Najprimernejši del dneva, da si zagotovimo energijo je zagotovo jut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13880" y="5536800"/>
            <a:ext cx="7358040" cy="8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ozitivni učinki na zdravje so ugotovljeni že pr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ajtrkovanju 4 do 5-krat na ted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572000" y="928800"/>
            <a:ext cx="424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onstantia"/>
              </a:rPr>
              <a:t>Z razvojno psihološkeg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onstantia"/>
              </a:rPr>
              <a:t>vidika:</a:t>
            </a: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pozornost, spomin in odzivni čas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zmožnost reševanja kompleksnih nalog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razpoloženj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214200" y="981000"/>
            <a:ext cx="442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onstantia"/>
              </a:rPr>
              <a:t>S prehranskega vidika:</a:t>
            </a: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delovna storilnost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kakovost zaužite hrane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zmanjša se nevarnost pomanjkanja beljakovin, vlaknin, kalcija, železa, magnezija, folne kisline, vitaminov skupine B.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5267160" y="4581360"/>
            <a:ext cx="2857680" cy="855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boljša zmožnost uče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own Arrow 6"/>
          <p:cNvSpPr/>
          <p:nvPr/>
        </p:nvSpPr>
        <p:spPr>
          <a:xfrm>
            <a:off x="6357960" y="4005360"/>
            <a:ext cx="57132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4680" y="115560"/>
            <a:ext cx="84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Calibri"/>
              </a:rPr>
              <a:t>Zajtrk nam da moč in je hrana za možg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nosti rednega uživanje vseh priporočenih obrokov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13840" y="1928520"/>
            <a:ext cx="5699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 metabolizem, ugoden vpliv na raven krvnega sladkorja, posledično je tudi občutek sitosti boljš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ira bolj kakovostne prehrane preko dneva, ki je bogatejša z vlakninami in revnejša z maščobam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lažje vzdrževanje normalne telesne tež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6443640" y="2492280"/>
            <a:ext cx="20574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jpogostješi razlogi za opuščanje zajtr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932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zgodnja ura (“dijaki vozači”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dolg spanec, ni apetita, slabost..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zgodaj ponujen in “premočan” premostitveni obrok - malica (združevanje zajtrka in malice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dvečne kalorije (bojazen, da bi se zredil/-a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obremenjenost in pomanjkanje ča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40384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 u="sng">
                <a:solidFill>
                  <a:srgbClr val="000000"/>
                </a:solidFill>
                <a:uFillTx/>
                <a:latin typeface="Calibri"/>
              </a:rPr>
              <a:t>Najpogostejše napake pri zajtrk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619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puščanje zajtrk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Nepravilno sestavljen zajtrk, ki ne zagotavljajo ustreznega ravnovesja vnešenih hrani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visoka ali prenizka energijska vrednost obrok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Spremenljiv ritem zajtrkovanj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905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 u="sng">
                <a:solidFill>
                  <a:srgbClr val="000000"/>
                </a:solidFill>
                <a:uFillTx/>
                <a:latin typeface="Calibri"/>
              </a:rPr>
              <a:t>Kakšen je zdrav zajtr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490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Pretežno sestavljen iz polnovrednih žitnih izdelkov (polnozrnati kruh, kaše..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v kombinaciji z beljakovinskim živilom (mlečni izdelki, pusti mesni izdelek…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z dodatkom zelenjave ali sadj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oziroma 100 % sok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10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26953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4"/>
          <p:cNvSpPr/>
          <p:nvPr/>
        </p:nvSpPr>
        <p:spPr>
          <a:xfrm>
            <a:off x="5076720" y="4869000"/>
            <a:ext cx="3926160" cy="1144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Zajtrk naj predstavlja približno 20% vseh dnevnih energijskh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potreb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6140520" y="1628640"/>
            <a:ext cx="2857320" cy="4286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Calibri"/>
              </a:rPr>
              <a:t>Nekaj predlogov tradicionalnih slovenskih zajtrkov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1344240"/>
            <a:ext cx="676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črn kruh, maslo, med, jabolko, mlek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ajdov kruh, med, kislo mleko ali navadni jogurt, jabolko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vsen kruh, skuta, korenček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osena mlečna kaša s suhimi slivami in medom, hruška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mlečni zdrob z rozinami, hruška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lnozrnat kruh, maslo, marmelada, kaki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lbel kruh, umešano jajce, kisla kumarica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lenta z mlekom, slive ali ka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vseni kosmiči na mleku z mletimi lešniki, narezano sezonsko sadje, vo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6600"/>
                </a:solidFill>
                <a:latin typeface="Calibri"/>
              </a:rPr>
              <a:t>Pomen uravnotežene prehr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714240" y="157176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V obdobku odraščanja je uravnoteženo prehranjevanje pomembno, ker na eni strani omogoča optimalno zdravje, rast in intelektulanni razvoj, po drugi strani pa preprečuje nastanek zdravstvenih problemov in z njimi v otroštvu ali odrasli dobi povezane bolezni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357880" y="2000160"/>
            <a:ext cx="3333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6600"/>
                </a:solidFill>
                <a:latin typeface="Calibri"/>
              </a:rPr>
              <a:t>Zakaj jemo vsak d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714240" y="1571760"/>
            <a:ext cx="7890120" cy="42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 u="sng">
                <a:solidFill>
                  <a:srgbClr val="000000"/>
                </a:solidFill>
                <a:uFillTx/>
                <a:latin typeface="Calibri"/>
              </a:rPr>
              <a:t>Hrana je gradbeni material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V času rasti in razvoja hitro rastemo, obenem se naše telo nenehno obnavlja. V nekaj letih podvojimo telesno težo. Le dobro zgrajeno telo bo znalo delovalo tako kot je treba in ustreči vsem našim željam po gibanju, uporabi moči in vztrajnosti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Trdne kosti bodo premikale naše mišice, srce črpalo zdravo kri, prebavila pa nas bodo oskrbovala s potrebnimi hranili. In seveda možgani, v katerih se bo kar bliskalo.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oljeZBesedilom 1"/>
          <p:cNvSpPr/>
          <p:nvPr/>
        </p:nvSpPr>
        <p:spPr>
          <a:xfrm>
            <a:off x="250920" y="5805360"/>
            <a:ext cx="849780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Če pojemo več hrane, kot jo porabimo, se bomo redili, če pojemo manj, kot jo porabimo, pa bomo shujšal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6600"/>
                </a:solidFill>
                <a:latin typeface="Calibri"/>
              </a:rPr>
              <a:t>Zakaj jemo vsak d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714240" y="1571760"/>
            <a:ext cx="789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 u="sng">
                <a:solidFill>
                  <a:srgbClr val="000000"/>
                </a:solidFill>
                <a:uFillTx/>
                <a:latin typeface="Calibri"/>
              </a:rPr>
              <a:t>Hrana je vir energij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Energijo potrebujemo za to, da lahko karkoli počnemo, dihamo, plešemo, se smejemo, razmišljamo, se kregamo, skratka vse kar nama pade na pamet. Za vse to potrebujemo energijo, ki jo v obliki hrane in pijače zaužijemo vsak dan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Koliko energije potrebujemo je odvisno od naše presnove, pri kateri porabljamo energijo v mirovanju  za dihanje, črpanje krvi, prebavo... in pri naših dnevnih aktivnostih (delo, šport…)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6886440" y="0"/>
            <a:ext cx="2198880" cy="21337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500" spc="-1" strike="noStrike">
                <a:solidFill>
                  <a:srgbClr val="0d0d0d"/>
                </a:solidFill>
                <a:latin typeface="Calibri"/>
              </a:rPr>
              <a:t>Kakšno hrano potrebujemo, da zadostimo potrebam po energiji in gradbenem materialu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2080" y="1628640"/>
            <a:ext cx="8702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pestra mešana prehrana, sestavljena iz kombinacije različnih živil iz vseh priporočenih skupin živi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uživanje več manjših, pogostejših dnevnih obrokov (4 do 5), od katerih je </a:t>
            </a:r>
            <a:r>
              <a:rPr b="1" lang="sl-SI" sz="2200" spc="-1" strike="noStrike">
                <a:solidFill>
                  <a:srgbClr val="0d0d0d"/>
                </a:solidFill>
                <a:latin typeface="Calibri"/>
              </a:rPr>
              <a:t>najpomembnejši zajtrk</a:t>
            </a: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polnovredna žita in žitne izdelke (kaše, testenine, riž), ki so vir energij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mleko in mlečne izdelke, ribe, puste vrste mesa in stročnice, ki so pomembni gradniki teles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zmerno količino maščob, zlasti kakovostne maščobe, kot so različne vrste olj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dovolj sadja in /ali zelenjave (4-5 porcij dnevno), s čimer zagotovimo dovolj vitaminov, mineralov, vlaknine…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dovolj tekočin, zlasti vode, nesladkanega čaja in sadnih sokov (razredčenih z vodo), s čimer zagotovimo delovanje vseh telesnih funkcij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zmerno količino sol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 u="sng">
                <a:solidFill>
                  <a:srgbClr val="336600"/>
                </a:solidFill>
                <a:uFillTx/>
                <a:latin typeface="Calibri"/>
              </a:rPr>
              <a:t>Vse, kar jemo, učinkuje na naše te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52388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Zato je pomembno, da v obdobju otroštva in najstništva jemo zdravo. Prehranjevanje lahko vpliva na našo (samo)podobo in počutje, pa tudi na zdravje v kasnejših leti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Enako velja za gibanj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Za zdravo prehranjevanje je pomembno tudi, da se prehranjujemo sproščeno in ob jedi uživamo - v miru, brez hrupa, sede, v prijetni družb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d0d0d"/>
                </a:solidFill>
                <a:latin typeface="Calibri"/>
              </a:rPr>
              <a:t>Prehranjevanje po prehranski pirami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042920" y="758880"/>
          <a:ext cx="7135920" cy="609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58880"/>
                    <a:ext cx="713592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000000"/>
                </a:solidFill>
                <a:latin typeface="Constantia"/>
              </a:rPr>
              <a:t>Posledice neustrezne prehra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4200" y="1356840"/>
            <a:ext cx="6734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Neuravnotežena prehrana in slabe prehranjevalne navade so lahko glavni </a:t>
            </a: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vzro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podhranjenosti, 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ki se lahko pokaže že zelo hitro (pomanjkanje določenih vitaminov in mineralov, npr. slabokrvnos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prekomerne telesne teže in debelosti. 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V letih 1987-2007 je narasel delež prekomerno težkih in debelih v starostni skupini od 6 do 19 let s 15,6 % pri fantih in dekletih na že 28,9 % pri fantih in 24,1 % pri dekletih. (</a:t>
            </a:r>
            <a:r>
              <a:rPr b="0" i="1" lang="sl-SI" sz="1500" spc="-1" strike="noStrike">
                <a:solidFill>
                  <a:srgbClr val="000000"/>
                </a:solidFill>
                <a:latin typeface="Calibri"/>
              </a:rPr>
              <a:t>Vir: Kovač, Strel, Fakulteta za šport. 2009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slabšega počutja in razpoloženja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, težjega reševanja nalog in težjega premagovanje telesnih naporov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1"/>
          <a:stretch/>
        </p:blipFill>
        <p:spPr>
          <a:xfrm>
            <a:off x="6715080" y="1679400"/>
            <a:ext cx="236556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000000"/>
                </a:solidFill>
                <a:latin typeface="Constantia"/>
              </a:rPr>
              <a:t>Ali se otroci in mladostniki prehranjujejo zdravo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8000" y="1500120"/>
            <a:ext cx="6480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uživajo premalo zelenjave ter rib, dekleta pa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tudi premalo mleka in mlečnih izdelkov ter mesa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prepogosto posegajo po visoko kaloričnih izdelkih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, ki so hranilno revni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p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ogosto posegajo po sladkih in slanih prigrizkih ter 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sladkanih pijačah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zaužijejo manjše število dnevnih obrokov od priporočenega, obenem se prehranjujejo neredno; </a:t>
            </a:r>
            <a:r>
              <a:rPr b="1" lang="sl-SI" sz="2300" spc="-1" strike="noStrike" u="sng">
                <a:solidFill>
                  <a:srgbClr val="0d0d0d"/>
                </a:solidFill>
                <a:uFillTx/>
                <a:latin typeface="Calibri"/>
                <a:ea typeface="Times New Roman"/>
              </a:rPr>
              <a:t>najpogosteje opuščajo zajtrk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nimajo ustreznih navad pitja, pogosto so žejni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slaba samopodoba predvsem deklet (se ocenjuje, da so predebele, so na shujševalni dieti, ali celo menijo, da bi morale shujša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l-SI" sz="700" spc="-1" strike="noStrike">
                <a:solidFill>
                  <a:srgbClr val="000000"/>
                </a:solidFill>
                <a:latin typeface="Calibri"/>
              </a:rPr>
              <a:t>Vir:</a:t>
            </a:r>
            <a:r>
              <a:rPr b="0" lang="sl-SI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700" spc="-1" strike="noStrike">
                <a:solidFill>
                  <a:srgbClr val="000000"/>
                </a:solidFill>
                <a:latin typeface="Calibri"/>
              </a:rPr>
              <a:t>HBSC in druge presečne raziska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6500880" y="2214720"/>
            <a:ext cx="2517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1:07:13Z</dcterms:created>
  <dc:creator>Matej Gregorič</dc:creator>
  <dc:description/>
  <dc:language>en-US</dc:language>
  <cp:lastModifiedBy>MKGP</cp:lastModifiedBy>
  <dcterms:modified xsi:type="dcterms:W3CDTF">2011-10-10T06:47:10Z</dcterms:modified>
  <cp:revision>220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