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AE0F-BCDB-4205-9487-ECE0F2CC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0BA8-51D0-453F-AAFE-FFC2289D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851F-2280-47BE-89D6-749AF914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C6AB-0D76-4C65-BFC1-C2FA0CAF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3243-9F3D-4422-9AF5-07E33F22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7686-F6BD-4DC1-B25C-E90B52DD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13E9-A1F7-41F1-A492-14E1608B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6979-4D62-43EF-B8B0-ED855D67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4EF5-2B56-4E79-A560-80BAC41B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C871-D205-4E70-B45F-413E43B1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0985-029F-4DA3-87EB-1DBC2919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F666-3106-4A32-A80B-762BD1DB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3B76-FB6E-4996-AA83-9B535B596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800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2707920"/>
            <a:ext cx="8569080" cy="94716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2752920"/>
            <a:ext cx="7634160" cy="46656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2800" spc="-1" strike="noStrike">
                <a:solidFill>
                  <a:srgbClr val="003300"/>
                </a:solidFill>
                <a:latin typeface="Arial"/>
              </a:rPr>
              <a:t>Za pripravo zajtrka se za kuhanje ter peko  </a:t>
            </a:r>
            <a:r>
              <a:rPr b="1" lang="sl-SI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sl-SI" sz="2800" spc="-1" strike="noStrike">
                <a:solidFill>
                  <a:srgbClr val="003300"/>
                </a:solidFill>
                <a:latin typeface="Arial"/>
              </a:rPr>
              <a:t>uporablja ener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sl-SI" sz="2400" spc="-1" strike="noStrike">
                <a:solidFill>
                  <a:srgbClr val="003300"/>
                </a:solidFill>
                <a:latin typeface="Arial"/>
              </a:rPr>
              <a:t>Uporaba lokalne hrane ter domačih obnovljivih vir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00"/>
                </a:solidFill>
                <a:latin typeface="Arial"/>
              </a:rPr>
              <a:t>energij pomeni tudi varovanje oko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sl-SI" sz="2400" spc="-1" strike="noStrike">
                <a:solidFill>
                  <a:srgbClr val="003300"/>
                </a:solidFill>
                <a:latin typeface="Arial"/>
              </a:rPr>
              <a:t>Drva so tradicionalen domač obnovljiv vir energi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sl-SI" sz="2400" spc="-1" strike="noStrike">
                <a:solidFill>
                  <a:srgbClr val="003300"/>
                </a:solidFill>
                <a:latin typeface="Arial"/>
              </a:rPr>
              <a:t>Tradicionalen zajtrk lahko pripravimo tudi s pomočjo ostalih domačih obnovljivih virov energ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4000" y="2636640"/>
            <a:ext cx="8208720" cy="94716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4000" y="2491920"/>
            <a:ext cx="8229600" cy="3961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3300"/>
                </a:solidFill>
                <a:latin typeface="Arial"/>
              </a:rPr>
              <a:t>Za prevoz hrane se uporablja ener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3300"/>
                </a:solidFill>
                <a:latin typeface="Arial"/>
              </a:rPr>
              <a:t>Ob nakupu hrane se redko vprašamo kje je bila hrana pridelana ter kakšno onesnaževanje povzročamo z nakupi sadja in zelenjave, ki se vozi na dolge razdal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3300"/>
                </a:solidFill>
                <a:latin typeface="Arial"/>
              </a:rPr>
              <a:t>Tradicionalen zajtrk je pridelan </a:t>
            </a:r>
            <a:r>
              <a:rPr b="1" lang="sl-SI" sz="2000" spc="-1" strike="noStrike">
                <a:solidFill>
                  <a:srgbClr val="003300"/>
                </a:solidFill>
                <a:latin typeface="Arial"/>
              </a:rPr>
              <a:t>iz lokalno pridelane hrane</a:t>
            </a:r>
            <a:r>
              <a:rPr b="0" lang="sl-SI" sz="2000" spc="-1" strike="noStrike">
                <a:solidFill>
                  <a:srgbClr val="003300"/>
                </a:solidFill>
                <a:latin typeface="Arial"/>
              </a:rPr>
              <a:t> iz pridelkov pridelanih doma ali v domačem okolj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3300"/>
                </a:solidFill>
                <a:latin typeface="Arial"/>
              </a:rPr>
              <a:t>Sadje in zelenjava, ki se prevaža na velike razdalje, mora biti  utrgana ko je še zelena, ter obdelani z različnimi kemičnimi preparati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914400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6840" cy="13366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229600" cy="3600360"/>
          </a:xfrm>
          <a:prstGeom prst="rect">
            <a:avLst/>
          </a:prstGeom>
          <a:solidFill>
            <a:srgbClr val="ffffff">
              <a:alpha val="73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3300"/>
                </a:solidFill>
                <a:latin typeface="Arial"/>
              </a:rPr>
              <a:t>Tradicionalno je tudi lokalno</a:t>
            </a:r>
            <a:r>
              <a:rPr b="0" lang="sl-SI" sz="2000" spc="-1" strike="noStrike">
                <a:solidFill>
                  <a:srgbClr val="003300"/>
                </a:solidFill>
                <a:latin typeface="Arial"/>
              </a:rPr>
              <a:t>, tako iz vidika izvora hrane kot porabe energije za njeno pripra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3300"/>
                </a:solidFill>
                <a:latin typeface="Arial"/>
              </a:rPr>
              <a:t>V Sloveniji priraste letno okoli 4 m3 lesa na prebival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sl-SI" sz="2000" spc="-1" strike="noStrike">
                <a:solidFill>
                  <a:srgbClr val="003300"/>
                </a:solidFill>
                <a:latin typeface="Arial"/>
              </a:rPr>
              <a:t>V kolikor bi ves les po uporabi v izdelkih reciklirali in na koncu skurili bi bilo to v toploti   primerljivo z okoli 1000 l kurilnega ol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3300"/>
                </a:solidFill>
                <a:latin typeface="Arial"/>
              </a:rPr>
              <a:t>Slovenija je edina država v EU ki zaenkrat nima niti ene večje vetrne elektrar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3300"/>
                </a:solidFill>
                <a:latin typeface="Arial"/>
              </a:rPr>
              <a:t>Obnovljive vire energij moramo bolje izkoristi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12:59:05Z</dcterms:created>
  <dc:creator>Miha Koprivnikar</dc:creator>
  <dc:description/>
  <dc:language>en-US</dc:language>
  <cp:lastModifiedBy>MKGP</cp:lastModifiedBy>
  <dcterms:modified xsi:type="dcterms:W3CDTF">2011-10-18T08:50:09Z</dcterms:modified>
  <cp:revision>6</cp:revision>
  <dc:subject/>
  <dc:title>Diapozitiv 1</dc:title>
</cp:coreProperties>
</file>