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2752-8BA9-4D00-A0AE-3BA0597C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E3AC-CB99-481C-91FF-8EEA3C92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FE43-83A3-4BF6-A0C1-AA4EF324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2CB-2E71-402B-827C-81EDCA09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4039-3244-4945-9203-611BDD2E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0C05-5A64-4DD6-935C-12B314AA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C29F-F7AD-4FBF-8D8B-BA8BA009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76B8-0B53-4EE4-9AAB-2D526148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2945-738A-4CA8-81F8-DB8D12CE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D302-F95B-4411-8B75-1E6E7370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D54B-019C-450B-B8F7-C131A318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0F00-12EC-4F3A-AA3A-B5E311A9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CB52-3916-4E46-83BD-0C4C3BF1FB9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6912000" cy="1314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863720" cy="84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OVANJE VIROV PITNE V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delava hrane na vodovarstvenih območj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men vode za življe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 zadnjih 100 letih se je poraba pitne (sladke) vode v svetu povečala za  šestkr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araščanje števila prebivalstva in grožnja klimatskih sprememb lahko ob neustreznem načinu uporabe in varovanja pitne vode pripelje do velike svetovne krize z vo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oskrbo s pitno vodo lahko ogrozi tudi naraščanje vsebnosti nevarnih snovi v vodi, kar vpliva na poslabševanje njene kakovosti ter primernosti razpoložljivih vodnih virov za uporab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ednostna naloga je odpravljanje škodljivih vplivov na vode in zagotavljanje vode primerne kakovosti za človeka in naravne ekosistem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oga kmetijstva pri ohranjanju čiste pitne v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membno je, da pri kmetovanju ne onesnažujemo okolja, da ohranjamo biotsko raznovrstnost in tipično slovensko kraji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memben del varovanja okolja pri kmetijski pridelavi je varovanje virov pitne vo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Sloveniji predstavlja glavnino pitne vode podzemna voda, ki pa je na intenzivnih kmetijskih površinah lahko precej izpostavljena onesnaženju zaradi uporabe gnojil in fitofarmacevtskih sredstev (FF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okolici zajetij pitne vode so določeno površino opredelili kot VVO na katerem velja poseben režim varovanja pitne vo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VVO sta omejena gnojenje kmetijskih površin in raba FFS. Z upoštevanjem teh predpisov, daje kmetijstvo pomemben doprinos k varovanju vodnih virov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Ključno za varovanje voda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a se ne uporabljajo organska gnojil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a se omeji in nadzoruje uporaba dušičnih mineralnih gnoji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a se uporabljajo le tista FFS, ki ne predstavljajo nevarnosti za pitno vod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a se v čimvečji možni meri izvajajo tehnologije ekološkega kmetovanj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osveščanje, informiranje, obveščanje javnosti oziroma vseh deležnikov v verigi uporabe in varovanja pitne vo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8:00:03Z</dcterms:created>
  <dc:creator>Andrej Lombar</dc:creator>
  <dc:description/>
  <dc:language>en-US</dc:language>
  <cp:lastModifiedBy>MKGP</cp:lastModifiedBy>
  <dcterms:modified xsi:type="dcterms:W3CDTF">2011-10-10T08:40:07Z</dcterms:modified>
  <cp:revision>5</cp:revision>
  <dc:subject/>
  <dc:title>Diapozitiv 1</dc:title>
</cp:coreProperties>
</file>