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5EB-1FF7-4715-A00F-C45D4F3A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94E-E153-4439-8C57-0E5D1D04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9BC-6118-4907-9C4A-8A14E317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0D9-A214-48A4-B2CB-B25B55AF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532-F8B5-4C84-9CFB-923E277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0B4-E07B-4DA7-BFA9-1F7E00A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EAF-4970-444D-B6D5-CFF7582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06B-3B73-4C2B-AF0B-180A745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F69-C539-4619-8794-13950D18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E7F-2F0B-43CB-BC15-4426837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5C3-ED32-425D-9B04-D92EC5F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1F3-D724-4BAB-A0D5-25CE614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329-6DDD-4B9B-9FB7-176A490296E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16280"/>
            <a:ext cx="6012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Neoporečni vodni viri ponujajo zdrave in kakovostne ribiške in ribogojske pridelk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2133720"/>
            <a:ext cx="320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be in ribji izdelki se že tradicionalno uporabljajo v prehrani ljud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nost dajemo svežim ribam iz lokalnih ribogojnic in iz domačega mor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268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IBE IN RIBJI IZDELK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55450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5280" y="6021360"/>
            <a:ext cx="20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mljena post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538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e so zelo pomembne v naši prehrani, saj so lahko prebavljive in imajo visoko biološko vred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e vsebujejo lahko prebavljive beljakovine, vitamine, minerale in imajo ugodno maščobno kislinsko sestavo (veliko omega 3 maščobnih kislin), ki so pomembne v zdravi prehrani in nujne za človekov organiz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je beljakovine se prebavijo v 3 do 4 urah, goveje meso se prebavi v 8 do 10 ur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00"/>
                </a:solidFill>
                <a:latin typeface="Arial"/>
              </a:rPr>
              <a:t>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50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4321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Kako pri nakupu ribe preverimo njeno svež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stre, izbočene, svetle o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Gladka in bleščeča koža brez slu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Čvrsto in elastično meso, ki se mora ob dotiku vrniti v prvoten polož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Škrge morajo biti svetlo rdeče ba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Značilen prijeten vonj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iporoča se uživanje 150 do 200 g različnih vrst rib enkrat do dvakrat tedensko. Pomembno je, da otroke že v predšolskem obdobju naučimo jesti različne vrste ri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116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38:11Z</dcterms:modified>
  <cp:revision>19</cp:revision>
  <dc:subject/>
  <dc:title>Diapozitiv 1</dc:title>
</cp:coreProperties>
</file>