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1C0F-4C9F-40EC-B52A-785CC379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9E1-E0BB-406D-8AB8-697C3A93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071-0828-41FD-9CB0-43EB0FE3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961-DB99-48F4-8FED-36E8D6E8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49A-F522-415C-B223-DB500B6E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056C-C497-4B2E-A9D0-D436A395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AA8-9BA6-4DBF-B2DF-06F88213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612C-87AE-4DAF-9A32-586AC3CD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B722-A2D8-4043-A58F-FBA9FA57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749-AE2B-4C31-BCCD-21829D8F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C68-6CEE-4AD8-8CB9-B40C52C1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E69-A24B-4C29-B298-99679F39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26C3-67CE-4843-BE6B-60AA65C27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6912000" cy="1314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863720" cy="8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916280"/>
            <a:ext cx="7772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c0000"/>
                </a:solidFill>
                <a:latin typeface="Arial"/>
              </a:rPr>
              <a:t>Okus tradicije in pridnih rok ponujata </a:t>
            </a:r>
            <a:br>
              <a:rPr sz="2500"/>
            </a:br>
            <a:r>
              <a:rPr b="1" lang="en-US" sz="2500" spc="-1" strike="noStrike">
                <a:solidFill>
                  <a:srgbClr val="5c0000"/>
                </a:solidFill>
                <a:latin typeface="Arial"/>
              </a:rPr>
              <a:t>dobrote z naših kmetij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0360" y="2133720"/>
            <a:ext cx="32036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mečke dobrote nekdaj in še danes so tradicionalno izdela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 predelavo vstopajo sa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izvodi s kmetij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začimb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l in zelišč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006720"/>
            <a:ext cx="5796000" cy="3851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96000" y="6431040"/>
            <a:ext cx="23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3300"/>
                </a:solidFill>
                <a:latin typeface="Arial"/>
              </a:rPr>
              <a:t>Prleška t</a:t>
            </a: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ü</a:t>
            </a:r>
            <a:r>
              <a:rPr b="1" lang="sl-SI" sz="2200" spc="-1" strike="noStrike">
                <a:solidFill>
                  <a:srgbClr val="003300"/>
                </a:solidFill>
                <a:latin typeface="Arial"/>
              </a:rPr>
              <a:t>n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47640" y="1268280"/>
            <a:ext cx="58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MESO IN MESNI IZDELK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363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li ve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V kmečkih salamah </a:t>
            </a: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Arial"/>
              </a:rPr>
              <a:t>vso maščobo vidimo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, nič ni skrite maščob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Pri izdelavi kmečkih salam se doda samo še sol, poper in česen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360" y="2617920"/>
            <a:ext cx="5472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5292720" cy="29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00"/>
                </a:solidFill>
                <a:latin typeface="Arial"/>
              </a:rPr>
              <a:t>Ali ves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00"/>
                </a:solidFill>
                <a:latin typeface="Arial"/>
              </a:rPr>
              <a:t>Da kmečkim izdelkom ne dodajajo raznih kemičnih sestavin, saj je v mesu prisotna naravna mikro flora (encimi in bakterije), ki omogočajo, da meso zori in salama postane užitn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3645000"/>
            <a:ext cx="2676600" cy="295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7767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417672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i vest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Zakonodaja dovoljuje, da je hrenovka sestavljena tako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75% mesnega testa* iz govedine in svinjine – v testu mora biti najmanj 25% svinjskega mesa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največ 25% slanine (svinjska tolšč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11640" y="1125360"/>
            <a:ext cx="4729320" cy="3829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5084640"/>
            <a:ext cx="84247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*</a:t>
            </a: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Mesno testo - je mesna masa pridobljena s sekljanjem katerekoli vrste pustega, toplega, ohlajenega ali zmrznjenega mesa. Dovoljen je dodatek soli, tehnoloških dodatkov in aditivov ter vode v količini, ki so potrebni, da je masa testaste konsist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8:00:03Z</dcterms:created>
  <dc:creator>Andrej Lombar</dc:creator>
  <dc:description/>
  <dc:language>en-US</dc:language>
  <cp:lastModifiedBy>MKGP</cp:lastModifiedBy>
  <dcterms:modified xsi:type="dcterms:W3CDTF">2011-10-10T08:34:45Z</dcterms:modified>
  <cp:revision>12</cp:revision>
  <dc:subject/>
  <dc:title>Diapozitiv 1</dc:title>
</cp:coreProperties>
</file>